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4.wmf" ContentType="image/x-wmf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5.jpeg" ContentType="image/jpeg"/>
  <Override PartName="/ppt/media/image10.jpeg" ContentType="image/jpeg"/>
  <Override PartName="/ppt/media/image6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81BE-B532-4D17-BCD6-6B7C8B647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B87C-6BFB-4B48-A48F-E0553302F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455B-E35B-42A3-9FA2-12891203D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589F-967D-43CB-86AB-E151575A1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FB8A-DE62-481A-8AA1-F2EB3CB7A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5424-D284-4227-8040-D12D97478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5437-9A89-48C6-BAA9-05FA0A13E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31C8-8FB4-4C5E-A728-3E8A86F8B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F168-B968-478A-A19B-6F286C44F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6367-CD1D-49E7-9B8C-99B31159E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AEFE-C923-49E9-9166-675CEFD85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84FC-660E-4436-A64C-B4EDD9FC3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A9AD-5A59-4269-A24A-EAD7297D2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EB05-5B2D-4B31-AEF4-49FA765DD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6596-FE8A-48EB-952E-9FFC30C63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29D3-FEFE-427D-9A9E-87EF2BC27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B92B-F30D-4EF3-9866-0E9F5BED4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2D6F-CBE2-4E45-97CB-7448946C2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1A03-72DC-466E-BE6B-611BEA99F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4DCB-F63C-44EB-A5A7-2EF2A1084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22D8-90C8-45C7-B534-BA2C731B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E619-8095-4197-A87D-D3EE503B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F7B6-CB8D-49F4-BCCC-EB949931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65BB-D76D-4922-8324-4EF080FF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F0C9-0C12-4168-BD8A-39D8454E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3549-1FF7-408D-9492-ABEA20C0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0C79-83CE-4AEA-8C82-8AAF2769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F78D-FAB1-4E91-BA8B-52E9D439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CA59-01F7-40A0-AF39-133D6D9A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43C7-E237-404E-87C0-2705D060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6113-5793-47E6-8A08-233682A4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3FE8-7FA6-4A74-9DEC-C8A6426E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7F40-86E4-42CE-B6A9-7025B52A8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26"/>
          <p:cNvSpPr/>
          <p:nvPr/>
        </p:nvSpPr>
        <p:spPr>
          <a:xfrm>
            <a:off x="0" y="152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Isaac Newton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gland   mid-1600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27" descr="newton"/>
          <p:cNvPicPr/>
          <p:nvPr/>
        </p:nvPicPr>
        <p:blipFill>
          <a:blip r:embed="rId1"/>
          <a:stretch/>
        </p:blipFill>
        <p:spPr>
          <a:xfrm>
            <a:off x="304920" y="1371600"/>
            <a:ext cx="2666880" cy="2500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28"/>
          <p:cNvSpPr/>
          <p:nvPr/>
        </p:nvSpPr>
        <p:spPr>
          <a:xfrm>
            <a:off x="2590920" y="2895480"/>
            <a:ext cx="6781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stellar"/>
              </a:rPr>
              <a:t>Newton’s </a:t>
            </a:r>
            <a:r>
              <a:rPr b="1" lang="en-US" sz="8000" spc="-1" strike="noStrike">
                <a:solidFill>
                  <a:srgbClr val="000000"/>
                </a:solidFill>
                <a:latin typeface="Castellar"/>
              </a:rPr>
              <a:t>3 Laws of Mot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W183_P_04"/>
          <p:cNvPicPr/>
          <p:nvPr/>
        </p:nvPicPr>
        <p:blipFill>
          <a:blip r:embed="rId1"/>
          <a:stretch/>
        </p:blipFill>
        <p:spPr>
          <a:xfrm>
            <a:off x="0" y="2971800"/>
            <a:ext cx="3168720" cy="5867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W148_04"/>
          <p:cNvPicPr/>
          <p:nvPr/>
        </p:nvPicPr>
        <p:blipFill>
          <a:blip r:embed="rId2"/>
          <a:stretch/>
        </p:blipFill>
        <p:spPr>
          <a:xfrm>
            <a:off x="3124080" y="2895480"/>
            <a:ext cx="3549600" cy="55627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457200" y="2286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mount of friction between two surfaces depends on  3 facto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FG04_05A"/>
          <p:cNvPicPr/>
          <p:nvPr/>
        </p:nvPicPr>
        <p:blipFill>
          <a:blip r:embed="rId1"/>
          <a:stretch/>
        </p:blipFill>
        <p:spPr>
          <a:xfrm>
            <a:off x="0" y="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FG04_05B"/>
          <p:cNvPicPr/>
          <p:nvPr/>
        </p:nvPicPr>
        <p:blipFill>
          <a:blip r:embed="rId2"/>
          <a:stretch/>
        </p:blipFill>
        <p:spPr>
          <a:xfrm>
            <a:off x="2286000" y="2286000"/>
            <a:ext cx="3809880" cy="2540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FG04_05C"/>
          <p:cNvPicPr/>
          <p:nvPr/>
        </p:nvPicPr>
        <p:blipFill>
          <a:blip r:embed="rId3"/>
          <a:stretch/>
        </p:blipFill>
        <p:spPr>
          <a:xfrm>
            <a:off x="5791320" y="4622760"/>
            <a:ext cx="3352680" cy="22352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2819520" y="2286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n pushes a 50 kg load  on a cart with 90  Newtons of force .  Find the cart’s acceler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28600" y="2590920"/>
            <a:ext cx="289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wo men each push a 50 kg load  on a cart with 90  Newtons of force each.  Find the cart’s acceler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04920" y="52578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n pushes a 100 kg load  on a cart with 90  Newtons of force .  Find the cart’s acceler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E05_18"/>
          <p:cNvPicPr/>
          <p:nvPr/>
        </p:nvPicPr>
        <p:blipFill>
          <a:blip r:embed="rId1"/>
          <a:stretch/>
        </p:blipFill>
        <p:spPr>
          <a:xfrm>
            <a:off x="-838080" y="2057400"/>
            <a:ext cx="7010280" cy="52592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533520" y="0"/>
            <a:ext cx="8001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Free body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rawing of all the forces acting on a body.  It is helpful to isolate the body first by drawing a circle around it.  All objects that cut the circle provide a contact force. Invisible forces that may be present are weight and fric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914400" y="6094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ce of gravity I also called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5943600" y="3808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e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828800" y="1143000"/>
            <a:ext cx="28195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gra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5791320" y="129528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2362320" y="22096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 =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4495680" y="2743200"/>
            <a:ext cx="419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 = 9.81 m/s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d is c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acceleration of gravit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533520" y="380880"/>
            <a:ext cx="76960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Strateg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olving problems involving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762120" y="1752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raw F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971800" y="17524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 = ma in one direction at a a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943600" y="17524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olve for desired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H04_32"/>
          <p:cNvPicPr/>
          <p:nvPr/>
        </p:nvPicPr>
        <p:blipFill>
          <a:blip r:embed="rId1"/>
          <a:stretch/>
        </p:blipFill>
        <p:spPr>
          <a:xfrm>
            <a:off x="0" y="3352680"/>
            <a:ext cx="3581280" cy="32562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0" y="228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atic Problem: 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 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04920" y="9144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300 N flower basket is held up by two vertical ropes.  Find the tension in each ro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934320" y="228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raw F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609480" y="19810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 = ma in one direction at a a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3434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olve for desired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W150_04"/>
          <p:cNvPicPr/>
          <p:nvPr/>
        </p:nvPicPr>
        <p:blipFill>
          <a:blip r:embed="rId1"/>
          <a:stretch/>
        </p:blipFill>
        <p:spPr>
          <a:xfrm>
            <a:off x="0" y="914400"/>
            <a:ext cx="3409920" cy="6407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4038480" y="380880"/>
            <a:ext cx="4572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you pull an object, friction grows to stop you, until the rough interlocking ridges between surfaces finally gives. This maximum value is called “static fri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your moving, the rough ridges don’t lock as tightly.  You have less friction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4648320" y="48769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“kinetic fri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FG04_11E"/>
          <p:cNvPicPr/>
          <p:nvPr/>
        </p:nvPicPr>
        <p:blipFill>
          <a:blip r:embed="rId1"/>
          <a:stretch/>
        </p:blipFill>
        <p:spPr>
          <a:xfrm>
            <a:off x="0" y="-533520"/>
            <a:ext cx="4952880" cy="33022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3352680" y="1828800"/>
            <a:ext cx="53341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4 kg block is pushed up with 50 N of force.  Find its acceler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FG04_035"/>
          <p:cNvPicPr/>
          <p:nvPr/>
        </p:nvPicPr>
        <p:blipFill>
          <a:blip r:embed="rId1"/>
          <a:stretch/>
        </p:blipFill>
        <p:spPr>
          <a:xfrm>
            <a:off x="0" y="0"/>
            <a:ext cx="4648320" cy="30988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2895480" y="2286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ly pushes an old fashioned lawnmower at  a constant speed of 3 m/s.  She pushes with 100 N at an angle of 6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648320" y="13716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FBD and find the vertical and horizontal components of her pus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80880" y="5410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friction must there b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FG04_034"/>
          <p:cNvPicPr/>
          <p:nvPr/>
        </p:nvPicPr>
        <p:blipFill>
          <a:blip r:embed="rId1"/>
          <a:stretch/>
        </p:blipFill>
        <p:spPr>
          <a:xfrm>
            <a:off x="4419720" y="0"/>
            <a:ext cx="4419360" cy="29462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533520" y="2286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0880" y="35053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horizontal force on the b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4572000" y="2438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FR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80880" y="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F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33520" y="49528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vertical component of the pull of the ro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f0000"/>
                </a:solidFill>
                <a:latin typeface="Arial"/>
              </a:rPr>
              <a:t>Newton's First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41911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"An object at rest remains at rest, and an object in motion continues in motion with constant velocity unless it experiences a net external force.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7"/>
          <p:cNvGrpSpPr/>
          <p:nvPr/>
        </p:nvGrpSpPr>
        <p:grpSpPr>
          <a:xfrm>
            <a:off x="152280" y="-228600"/>
            <a:ext cx="8991720" cy="3889440"/>
            <a:chOff x="152280" y="-228600"/>
            <a:chExt cx="8991720" cy="3889440"/>
          </a:xfrm>
        </p:grpSpPr>
        <p:pic>
          <p:nvPicPr>
            <p:cNvPr id="54" name="Picture 4" descr="Galileos Incl Plane Photo"/>
            <p:cNvPicPr/>
            <p:nvPr/>
          </p:nvPicPr>
          <p:blipFill>
            <a:blip r:embed="rId1"/>
            <a:stretch/>
          </p:blipFill>
          <p:spPr>
            <a:xfrm>
              <a:off x="3886200" y="-228600"/>
              <a:ext cx="5257800" cy="38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5" descr="Galileo"/>
            <p:cNvPicPr/>
            <p:nvPr/>
          </p:nvPicPr>
          <p:blipFill>
            <a:blip r:embed="rId2"/>
            <a:stretch/>
          </p:blipFill>
          <p:spPr>
            <a:xfrm>
              <a:off x="152280" y="228600"/>
              <a:ext cx="3733920" cy="34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6"/>
            <p:cNvSpPr/>
            <p:nvPr/>
          </p:nvSpPr>
          <p:spPr>
            <a:xfrm>
              <a:off x="4114800" y="-152280"/>
              <a:ext cx="4343400" cy="1068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his is really Galileo’s Law of Inert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FG04_034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20318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609480" y="3049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box has a mass of 8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219320" y="8380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its accel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81240" y="297180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its 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410080" y="28954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normal force  that the ground pushes u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-3733920" y="-1676520"/>
          <a:ext cx="12268440" cy="920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733920" y="-1676520"/>
                    <a:ext cx="12268440" cy="920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 Box 3"/>
          <p:cNvSpPr/>
          <p:nvPr/>
        </p:nvSpPr>
        <p:spPr>
          <a:xfrm>
            <a:off x="5638680" y="0"/>
            <a:ext cx="373392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force is zero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doesn’t mean that no forces are acting….they could justadd up to zero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W144_04"/>
          <p:cNvPicPr/>
          <p:nvPr/>
        </p:nvPicPr>
        <p:blipFill>
          <a:blip r:embed="rId1"/>
          <a:stretch/>
        </p:blipFill>
        <p:spPr>
          <a:xfrm>
            <a:off x="1295280" y="2057400"/>
            <a:ext cx="5945400" cy="7848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609480" y="3049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re, the normal reaction force and weight canc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026"/>
          <p:cNvSpPr/>
          <p:nvPr/>
        </p:nvSpPr>
        <p:spPr>
          <a:xfrm>
            <a:off x="304920" y="152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e normal force of the floor always cancel your weigh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27"/>
          <p:cNvSpPr/>
          <p:nvPr/>
        </p:nvSpPr>
        <p:spPr>
          <a:xfrm>
            <a:off x="4191120" y="8380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if the floor is horizontal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030" descr="R05_21"/>
          <p:cNvPicPr/>
          <p:nvPr/>
        </p:nvPicPr>
        <p:blipFill>
          <a:blip r:embed="rId1"/>
          <a:stretch/>
        </p:blipFill>
        <p:spPr>
          <a:xfrm>
            <a:off x="0" y="2209680"/>
            <a:ext cx="5437080" cy="4943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31" descr="SE05_09"/>
          <p:cNvPicPr/>
          <p:nvPr/>
        </p:nvPicPr>
        <p:blipFill>
          <a:blip r:embed="rId2"/>
          <a:stretch/>
        </p:blipFill>
        <p:spPr>
          <a:xfrm>
            <a:off x="3809880" y="1752480"/>
            <a:ext cx="4038840" cy="3032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32" descr="N08_09"/>
          <p:cNvPicPr/>
          <p:nvPr/>
        </p:nvPicPr>
        <p:blipFill>
          <a:blip r:embed="rId3"/>
          <a:stretch/>
        </p:blipFill>
        <p:spPr>
          <a:xfrm>
            <a:off x="5715000" y="3740040"/>
            <a:ext cx="342900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22896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f0000"/>
                </a:solidFill>
                <a:latin typeface="Arial"/>
              </a:rPr>
              <a:t>Newton's Second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"The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celeration of an object is directly proportional to the net external force acting on the object and inversely proportional to the mass of the object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3333cc"/>
                </a:solidFill>
                <a:latin typeface="Arial"/>
              </a:rPr>
              <a:t>a=F/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 as commonly 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8800" spc="-1" strike="noStrike">
                <a:solidFill>
                  <a:srgbClr val="ff0066"/>
                </a:solidFill>
                <a:latin typeface="Arial"/>
              </a:rPr>
              <a:t>F= m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H04_08"/>
          <p:cNvPicPr/>
          <p:nvPr/>
        </p:nvPicPr>
        <p:blipFill>
          <a:blip r:embed="rId1"/>
          <a:stretch/>
        </p:blipFill>
        <p:spPr>
          <a:xfrm>
            <a:off x="4495680" y="2214720"/>
            <a:ext cx="51055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f0000"/>
                </a:solidFill>
                <a:latin typeface="Arial"/>
              </a:rPr>
              <a:t>Newton's Second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31240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increase the rate at which this  guy accelerates backwar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sodbkick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f0000"/>
                </a:solidFill>
                <a:latin typeface="Arial"/>
              </a:rPr>
              <a:t>Newton's Third La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04920" y="838080"/>
            <a:ext cx="77724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every action there is an equal and opposite reaction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B02_29"/>
          <p:cNvPicPr/>
          <p:nvPr/>
        </p:nvPicPr>
        <p:blipFill>
          <a:blip r:embed="rId1"/>
          <a:stretch/>
        </p:blipFill>
        <p:spPr>
          <a:xfrm>
            <a:off x="380880" y="2286000"/>
            <a:ext cx="46753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orseCart1"/>
          <p:cNvPicPr/>
          <p:nvPr/>
        </p:nvPicPr>
        <p:blipFill>
          <a:blip r:embed="rId1"/>
          <a:stretch/>
        </p:blipFill>
        <p:spPr>
          <a:xfrm>
            <a:off x="2362320" y="1523880"/>
            <a:ext cx="4228920" cy="21607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762120" y="0"/>
            <a:ext cx="77724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f0000"/>
                </a:solidFill>
                <a:latin typeface="Arial"/>
              </a:rPr>
              <a:t>Newton's Third La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2:07:05Z</dcterms:created>
  <dc:creator>jkeelty</dc:creator>
  <dc:description/>
  <dc:language>en-US</dc:language>
  <cp:lastModifiedBy>Template, Profile</cp:lastModifiedBy>
  <cp:lastPrinted>2017-10-24T15:59:35Z</cp:lastPrinted>
  <dcterms:modified xsi:type="dcterms:W3CDTF">2017-10-24T16:00:05Z</dcterms:modified>
  <cp:revision>24</cp:revision>
  <dc:subject/>
  <dc:title>PowerPoint Presentation</dc:title>
</cp:coreProperties>
</file>